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9FD-D2CB-4A0C-BFCF-855B15A4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CBF-0FA4-4543-8B63-3608A0AB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17CC-7AB3-45EF-94FF-32F624B1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B2D3-A80B-45DF-9168-6866993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087D-3151-41DE-8E75-B8CA6E32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A8B0-9C88-4696-AA4A-2889464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1C512-5B1F-4F5B-B73C-91E38FF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E7445-EE2F-440B-B909-87778E5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58CF-DD07-439A-BEB2-7EDA8AE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D3C21-6838-4D47-AB67-0C889BA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B34A-8A5A-45A4-83AE-777CA87A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1F03-394D-435F-8BF2-6CA38367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ABC-A72F-494B-9BE7-46560625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740D-0F90-4332-A8C5-271276B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8C79-6745-4A96-8B96-C88E376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5989-FDF3-4AC0-BCFC-6A6BE85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4E56-17E3-4B98-9DA5-8A23A99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B6C8-8ECE-4B80-94F2-B4C6615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A9B77-179B-4E53-9F7E-16D1203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B8B6-B3C4-4B0F-917B-7794020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8CB4-EADC-4EA9-9285-8BF9EC7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933A-9EA1-4F24-AEA7-4F0E353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38720-9075-4D2D-A938-B6D9AFCA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7D0-0992-4269-A55F-3C9FD1E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20142-6738-491F-82EE-917E5387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80131-F00D-4387-B575-3C2F5425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7FE14-4497-4181-BB66-07EDDA33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9DBE7-1AB8-41A5-9B07-15597EEF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477DE-BD16-4481-94BF-873A1CC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8D7ED-0A38-4225-AFDA-9CD1C27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8BB6D-B06E-4EC4-AF85-93ED4856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B4970-507F-4F0E-BB4A-EDCBDE9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E624F-A160-421C-9169-B5325C99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3A9A8-2BC2-446D-8BB7-9A602D1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221D6-67C8-41F0-932C-345D9DE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3EF50-6FA6-411D-A119-B91F0D14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9436D-9833-46BF-B878-C10012B0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B6C42-C3AF-4C8F-A1A8-90D1862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6FCF1-B2B5-4769-99FD-3185053F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5D1D1-30F3-4E8B-9B04-0A05F98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3F7E-4A99-42D5-A105-D8DF243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E85B-EF0D-49A8-9346-E80F5AC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A7591-E4EE-486E-B973-6C163E66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9F9DA-2BB4-4ABA-B962-BEA0CCD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3A931-6A2B-495E-8B4A-965773E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9ED6F-9661-49E1-BF2A-AF71F9F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6CCB1-BBF0-429D-881E-EDF87657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45113-17E1-40C2-BE65-1F92BFC3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8E419-72B7-4C97-9170-DA057F40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AC5DE-3283-4589-A8DA-951DCCE7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4D30B-2D71-4DF0-BDC8-464FBD5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8F271-B7C6-4154-8470-07201B8A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9006F-554D-443C-B2A9-7223E6A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1266E-2B39-4B24-BA00-9AA1306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D8D3E-AA12-4157-93E7-C10AB6F8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B9270-D504-4FD1-A93A-1C6064E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6C0FD-12D5-492E-AF5F-CCF1019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3CE2-A0E1-46B2-8C19-5B49265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17B3A-4BDA-498A-8D6F-5A304C1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A21F7-3B3C-4FFF-BE66-B937D08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056C-73D6-4180-8A62-0A60A95C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79EE4-0C41-447B-B61B-460F6237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876EB-3344-4B28-B2BC-3DDA44B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995E-B9DB-422C-8717-F68BB48D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1B2A0-3CF6-435B-901E-B474ABB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D4E7D-71BC-44B4-97C8-5A23E19F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F740A-D751-4692-928F-C4D028F3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139CA-75B0-4ADA-8D89-8E30653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F4699-0ECC-4517-9434-40F65BA7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6DD27-8982-4436-A9A9-C860E8FB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A308F-BBB6-443A-84A2-6DAD9EB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71B67-7F75-4DA6-9382-6B04F63C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D729E-8099-40BB-B4B3-E1247562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A15E3-4CDF-49EF-B9C4-B3EE504C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37180-83C2-46F1-847B-5C3AD56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0255F-CD0E-4626-B013-161BA8A8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6A36D-3735-4275-8FA4-4FD453B1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33F3D-C21F-4903-8D64-55D0083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FC6BA-B0DF-4774-8DC1-CB2C68F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DDF73-F83E-4D4F-984C-C419E88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A736B-2CBF-4C4D-BB1C-CED8F8F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95D1E-76C6-474B-A4BC-2638FDA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1943D-B084-48B9-8B97-E52E72D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9EB3D-4DB0-4DD4-AC0E-9465E574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AEFA0-E415-4184-8C64-9F74E528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48DDB-1363-4FB1-B063-EF4EB2F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75248-10BA-49DD-94BC-039B2971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CED1A-F927-45E9-B143-734A470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76259-292D-4778-8F03-337044E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77A08-A2E5-42FC-9F82-133F69D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22B90-62A8-4650-B290-1B117D2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42150-D1CE-42DB-9355-679C9DF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9418C-CAB4-43BF-8688-4367ABF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C2787-ACED-4C0C-9B31-6593AB9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8C22A-6743-421A-96AB-D7AA280B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446DB-0A1D-4249-AC91-63375542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EDBAD-512F-4E65-B878-909F0B74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F8BE0-93A1-4BA8-8152-7AF236A8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94BC7-0DFD-44DD-AEB6-C528AEDB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1CC63-BD60-4FE0-B52A-A48650BE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C0544-4B48-4986-8417-131DB322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CB7B4-5789-4FEC-81EE-6C7D251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ECD40-FF81-4AF8-B555-436B747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3A076-51ED-4974-A792-4F460DF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7BA-233B-4612-A059-04B378D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0691C-EF01-46DB-A9BD-C189061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4E72D-8B60-480F-8E00-250438B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ECFE9-F1DE-4000-ABCC-94DD64A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CC92F-F0E9-41E0-8500-F8A4FED0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0A192-7192-4E9F-A9B1-DBF2F6E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E237E-8DBD-4565-BCB8-C7933FFC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B33B0-A490-47AA-9764-E49B9497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4ADB4-E469-4BB9-A63D-C4B52C0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28646-8F48-4E10-973E-72D79ED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4E3E1-9367-4831-9CC2-B786D9B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89166-42D0-45A7-A8F9-D2C8B31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40B6C-50F5-4056-A11E-89A25A8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F9B3E-B3B1-4297-B1D2-5692260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4119C-1199-46AB-873D-B93429F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75C25-8D14-4F53-9015-615A53E6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4F446-36B6-4208-A9D4-9A749265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1EA0B-4196-4338-A8AA-4522CCBF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283AC-3762-4E49-A8A9-479CD3AC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D97A0-90A5-4016-86CF-1CEF6E3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237BD-E8FD-4A97-9DF3-AE54FB27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7BB8B-4BA4-4CCB-9451-42F10D11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C290B-04A6-464F-B146-7D48434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4085B-E43E-47C5-A748-161E00D6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56468-D233-496A-B6A9-AB6139D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2D1F4-772B-4867-BCAD-C3E1D87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44E88-1403-47E1-8EC7-9E5F653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C36E0-F9E0-49E6-BC45-ABDFC831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9D682-C0B1-4CC8-AD7B-A04EF66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2F2DE-B705-4D4B-8A6F-133E9FF7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8895F-7581-40C8-A493-4FCD572A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A11CA-8079-459A-ABDC-2F1420E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CF71E-44DA-4590-8F40-4BC03BB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499CC-4EE7-4FE0-93D2-5F20839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72FF8-A83B-4C66-8CDF-D40BD46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4F330-562E-4BF0-B2F1-63CC515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29B26-F816-4EC5-98A9-7C31394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0AC17-6AE8-40AA-BEAF-4AADED6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30BC9-A74C-4436-9505-7C50B02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C7388-825A-435E-9CA8-AF4A3105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3993D-9388-45F7-AC18-0C8D958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BFEC0-AEF4-4C93-9A50-76B60A78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8F9D0-8557-4D5D-8E78-3C2868C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1C4EF-772D-47C9-85BE-64B37471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3EDC1-4017-49F4-BD10-0FE2518A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32037-07F6-4756-B9D5-182D0FF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ECF75-16C9-4D25-A232-62CE33A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FBA63-A575-419F-A9D5-0BBB13DD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3E95FB-E13C-4383-B6B9-E362059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AEB44-0CE6-455D-AD29-4435712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CC61C-3A4A-4A35-B025-5B43D97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B2A8E-9B80-4A7A-B19A-8F288381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B22AE-1B24-48FE-8146-DBEA5ED7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886D8-C290-4889-9220-644470D7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E0EB1-7EAC-4B82-9AF6-F8BF4927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828B5-864C-4D6E-AB98-7FD13BF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B0D53-C0BC-4368-9F6F-1FDA1FAA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B1D69-F282-4B3E-959C-2455D0C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DFAAC-04FE-4083-B00C-2CD6DA4C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B0A33-F75A-4940-A937-44730555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AE256-2778-4084-BB1B-A6EC76B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77C8C-ED7A-48DB-A5D3-CA61D89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6694C-3033-472B-B505-6FCEDBA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D9924-5F31-4C6F-B363-60E3E26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958F1-4ADE-4027-B13E-08A9BD81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14C51-A2C4-4604-A5D5-1422681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C65D3-00A1-4ADB-A459-350E4AF4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2857B9-5DD0-480B-9032-E4F26B5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04B2E-ED06-4C34-A40A-E1D35EA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E40F4-52E2-48B1-A049-ABDC781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3D641-572D-421C-A4A7-7F5DEEE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780AAE-1198-4E99-AD6F-03FA582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9F230-3462-4222-BEA7-739C5F4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5A619-8150-46FE-9472-B8289CC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911C8-CD8E-4E8C-B907-993C93C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33C48-99B5-48A3-8E34-DB1CEAB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358F8-A2E0-4D27-8A92-4E1EB8F9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224E7-97F9-4BE9-BF4C-1355F347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2B3-18D3-4CC4-AE94-0D22AD8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045-2B1C-4ADE-9E38-4E58578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0AB-D4EB-4F05-BE77-DEBDFCB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15E6-33C8-4D4C-9971-3CC967A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F24-97E7-4402-9A9B-8A47841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F3C-BD77-448E-ACEE-6A6B5361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BD5-C67D-447D-8401-C82A413A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CB23-CF94-41CB-BE57-9788D87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F32-ABC1-4020-AAAC-2A94D31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720C-BCA5-4E63-BBAC-D2BB702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854-69F7-4A74-BF37-FC7ABC2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13D2-1C14-4A24-9A46-33CD4083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4900-4107-4CE5-8990-2DD21256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9DAD-B48F-402B-A2FB-E2FD5535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33FE-3A41-4FC9-BC38-868755DE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2E8-9C03-4367-892D-B099E545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51ED-977E-4F96-9E0B-88531D45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5B62-2D72-4A29-BB71-515EE4F4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49FE-5570-45CB-9FA9-6C21E8A4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C7C8-3907-4922-B988-E6F8772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0A79-7E28-4E14-B0BF-B7E97955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126B-0345-4288-ADB7-3256420B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CE26-143E-4454-BC0C-E80CAF7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2B4C-73CB-4139-95E3-D3394D9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92FF-A736-4FE9-971F-F0B6D1A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8C2E-14EF-4902-A0FB-C92D056E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0B3-BBC1-4D88-ABA1-CD3A44A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688D-9A28-4B62-8E6A-FD64BB65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A344-BFBA-47FF-A8F3-B6B5ABDD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F666-980B-45A5-A3DE-7EFD081E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12FA-AE3D-4652-848D-89D954D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170C-78B5-444C-9593-4DA4A37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45B4-1DAE-4C45-8009-9AE6B5E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9CA6-4563-4D4C-8716-1DB12D2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5858-A749-470F-A222-C87B579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776C-5837-4C5D-952F-80B0A38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054C-2E44-43DA-BE29-B86D3D30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173-4FBA-4554-BE31-D229A07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909E-4E3F-48FA-B75E-98523024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4C87-D60F-4583-BD66-A0896D55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C01A-13F8-4584-A373-2863E62F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9061-3E63-45ED-A4DB-6182D655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F216-C38B-48EC-99EF-B40E6AE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82E6-FB2B-4D8B-9143-5B059F4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676D8-678A-474C-A8A8-FEEB34CF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D0E3-24E7-4647-B224-0B7AB94F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9776-4C85-4C04-8853-7F28EC0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24F8-81D4-4CD6-A2AF-D2FDC75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E04-F80E-4FD3-8071-089A55C2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EEB7-0DD0-434B-B42A-24ABAC9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2A5D-1B66-483B-B902-CA6E322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7FEE-0E73-4763-BB51-59E36133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DD01-8601-48CC-A83B-3F83E0A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FCAB-A856-459A-A2AD-4D4B6E45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3295-7110-413B-9EBD-976BAE69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3324-3F6B-4921-9D3C-46437DE1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D886-2351-419B-AC94-05A7FD7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72BF-3716-4772-9CE1-3A30B92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094D-909C-4F34-8965-C157FE28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6D5-D27F-44F5-B379-45EEE9D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50F9-6BCD-4EFF-AA9F-4163CB8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A3CF2-A37E-4E6F-8F30-C1E30F9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CBDF-7EF1-461B-834F-080514B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36E4-5EA9-4C95-95E3-BB1AABA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05274-E3A8-4174-85B4-96011D7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3224-9111-4FF9-8466-7E28AE5F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0A93-A768-48C4-86A8-414C0E5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C6A1-CA16-456A-8249-4CF9DDDC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DE6AD-2D43-464E-979E-EA16567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F72C-7998-4350-9EDB-9722A1C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221-7FB8-4C9C-B38C-B29DC2C9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38A-8846-4FE6-A157-40BB70DEC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09A4-9D15-4018-95AF-E2E4A7CB92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393-0A1F-4DD4-AAA6-103C53766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DC2-19D3-48E6-87D6-CB203C926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0CB3-363D-42E7-8572-987A75DB4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5F9-4696-4250-97EE-0778185138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FA5-A748-48E3-8947-81780030B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F744-EF29-4227-83CA-218CF4E6A1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336-91DC-4540-8D26-81D103856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2660-4560-4435-8E38-7A1460EE5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201-F248-491B-85E9-57177176F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C46F-8F7F-4B55-8178-3F155B12E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2B23-B86E-4E3D-80E7-C60A3C518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6B90-32D9-495B-B966-AC5CDE331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517-4CA9-4D0F-9AD8-F293F79DE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D51-B528-4978-9231-996E3006D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8F5A-1A03-40F6-88FD-920F2D9E5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894-81E3-410D-A0A5-CE2D56FB6F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886-38F8-46B8-864A-6F44DC34F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7C0A-1C46-4C5D-BCFB-9944396A9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4"/>
          <p:cNvSpPr txBox="1"/>
          <p:nvPr/>
        </p:nvSpPr>
        <p:spPr>
          <a:xfrm>
            <a:off x="1130400" y="2286000"/>
            <a:ext cx="69469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hort Stori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rect 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riter tells the reader directly what kind of person the character i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direct 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der has to use his or her own judgement to identify personality traits of a charact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br>
              <a:rPr sz="3800"/>
            </a:br>
            <a:r>
              <a:rPr b="1" lang="en-US" sz="3800" spc="-1" strike="noStrike">
                <a:solidFill>
                  <a:srgbClr val="000099"/>
                </a:solidFill>
                <a:latin typeface="Comic Sans MS"/>
              </a:rPr>
              <a:t>Indirect Characterization</a:t>
            </a:r>
            <a:endParaRPr b="1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re are five methods for revealing characte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peech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ough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ther Characters’ feeli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tat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 does not change throughout the stor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ynam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 develops and grows over the course of the stor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 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Fl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hows only one personality trai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ound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Many different personality traits (good &amp; bad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Protagonis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Main character of a literary work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ntagonis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haracter or force in conflict with the protagoni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otiv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son that explains or partially explains why a character thinks, feels, behaves or acts in a certain way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vantage point from which the author has chosen to tell the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First Pers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ne of the characters is actually telling the story, using the pronoun “I.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ird Person Limited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Narrator sees the world through one character’s eyes and reveals only that character’s thoughts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ird Person Omniscien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ll Knowing”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oice outside the story that tells readers what any character thinks and feel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narrator is not always the author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Elements of A Short Story</a:t>
            </a:r>
            <a:endParaRPr b="1" lang="en-US" sz="4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43040" y="18284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oint of View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time and place of a story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 pla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ime and place of action in a literary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some stories, setting provides the conflic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aces where people live and make their homes can reveal a great deal about their characters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ne purpose of setting is to provide a background – a place for the characters to live and ac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etting can also provide atmosphere or mood - it affects the way a reader feels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ne of the oldest story plots in the world is the one in which a person fights against something in the physical world - a drought, a horde of ants, the heat of the desert, etc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Describing the 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what kind of place does the story take place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is the season? What is the climate? What is the time of day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re the characters in conflict with the setting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Describing the Setting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oes the setting help to understand the characters’ personalities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kind of atmosphere does the setting create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entral idea of a work of literatur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 theme makes some revelation about a subjec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ubject of the story is NOT THE SAME as the theme of the story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ubject is simply the topic of the story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me is not “love.”  Ask yourself…what about “love”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theme is usually not stated directly in the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Finding a Theme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Does the title signify something important about the story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Does the main character change in the course of the story? Does he or she realize something he or she didn’t know before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7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Comic Sans MS"/>
              </a:rPr>
              <a:t>Are there any important statements about life or people made in the story - either by the narrator or the characters?</a:t>
            </a: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Irony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contrast between expectation and reality.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is said and what is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lly mean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is expected to happen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nd what really happen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etween what appears to be true  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nd what is really tru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sequence of events in a literary work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Types of Irony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erba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writer or speaker says one thing but means anoth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ituationa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at we expect to happen is different than what actually happens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ramati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udience or reader knows what is happening but the characters do not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ood – (Atmosphere) Feeling created in the reader by a literary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o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writer’s attitude toward his or her audience and subjec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eshadowin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lues to suggest events that have not happened yet in the story; creates suspens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uspens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e uncertain feeling about what is going to happen next in a stor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llusion – References in a piece of writing that refer to the Bible, a time in history or another work of literature or ar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rame Story – Story within another story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alect – Way a character speaks (directly related to setting &amp; time period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Other Terms to Know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ymbolism - Anything that stands for or represents something else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x. Red ros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merican fla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onflic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 struggle between opposing fo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ternal – A character in conflict with himself or herself: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ear vs. Duty, Duty vs. Pride, Training v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stin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xternal - A character struggles against an outside force 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Man vs. Man, Man vs. Nature, Man vs.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Society,Man vs. Fat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Bare Bones of A Plot</a:t>
            </a:r>
            <a:endParaRPr b="1" lang="en-US" sz="4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lot is built on five main parts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xposi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ising Action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limax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Falling Action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esolution (Denouement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Plot Line</a:t>
            </a:r>
            <a:endParaRPr b="1" lang="en-US" sz="5000" spc="-1" strike="noStrike">
              <a:solidFill>
                <a:srgbClr val="000099"/>
              </a:solidFill>
              <a:latin typeface="Comic Sans MS"/>
            </a:endParaRPr>
          </a:p>
        </p:txBody>
      </p:sp>
      <p:grpSp>
        <p:nvGrpSpPr>
          <p:cNvPr id="1342" name="Group 24"/>
          <p:cNvGrpSpPr/>
          <p:nvPr/>
        </p:nvGrpSpPr>
        <p:grpSpPr>
          <a:xfrm>
            <a:off x="457200" y="1447920"/>
            <a:ext cx="8305920" cy="5351760"/>
            <a:chOff x="457200" y="1447920"/>
            <a:chExt cx="8305920" cy="5351760"/>
          </a:xfrm>
        </p:grpSpPr>
        <p:sp>
          <p:nvSpPr>
            <p:cNvPr id="1343" name="Text Box 10"/>
            <p:cNvSpPr/>
            <p:nvPr/>
          </p:nvSpPr>
          <p:spPr>
            <a:xfrm>
              <a:off x="457200" y="5029200"/>
              <a:ext cx="236232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99"/>
                  </a:solidFill>
                  <a:latin typeface="Comic Sans MS"/>
                </a:rPr>
                <a:t>Exposi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Group 23"/>
            <p:cNvGrpSpPr/>
            <p:nvPr/>
          </p:nvGrpSpPr>
          <p:grpSpPr>
            <a:xfrm>
              <a:off x="457200" y="1447920"/>
              <a:ext cx="8305920" cy="5351760"/>
              <a:chOff x="457200" y="1447920"/>
              <a:chExt cx="8305920" cy="5351760"/>
            </a:xfrm>
          </p:grpSpPr>
          <p:sp>
            <p:nvSpPr>
              <p:cNvPr id="1345" name="Line 4"/>
              <p:cNvSpPr/>
              <p:nvPr/>
            </p:nvSpPr>
            <p:spPr>
              <a:xfrm flipV="1">
                <a:off x="1600200" y="4251240"/>
                <a:ext cx="2514600" cy="1584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Line 5"/>
              <p:cNvSpPr/>
              <p:nvPr/>
            </p:nvSpPr>
            <p:spPr>
              <a:xfrm flipV="1">
                <a:off x="4114800" y="3032280"/>
                <a:ext cx="1219320" cy="121896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Line 6"/>
              <p:cNvSpPr/>
              <p:nvPr/>
            </p:nvSpPr>
            <p:spPr>
              <a:xfrm>
                <a:off x="5334120" y="3032280"/>
                <a:ext cx="609480" cy="182880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Line 7"/>
              <p:cNvSpPr/>
              <p:nvPr/>
            </p:nvSpPr>
            <p:spPr>
              <a:xfrm>
                <a:off x="5943600" y="4861080"/>
                <a:ext cx="220968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Text Box 11"/>
              <p:cNvSpPr/>
              <p:nvPr/>
            </p:nvSpPr>
            <p:spPr>
              <a:xfrm>
                <a:off x="457200" y="2743200"/>
                <a:ext cx="3124080" cy="174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Complications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99"/>
                    </a:solidFill>
                    <a:latin typeface="Comic Sans MS"/>
                  </a:rPr>
                  <a:t>(Rising Action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12"/>
              <p:cNvSpPr/>
              <p:nvPr/>
            </p:nvSpPr>
            <p:spPr>
              <a:xfrm>
                <a:off x="1371600" y="4403880"/>
                <a:ext cx="457200" cy="701640"/>
              </a:xfrm>
              <a:prstGeom prst="upArrow">
                <a:avLst>
                  <a:gd name="adj1" fmla="val 50000"/>
                  <a:gd name="adj2" fmla="val 38366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13"/>
              <p:cNvSpPr/>
              <p:nvPr/>
            </p:nvSpPr>
            <p:spPr>
              <a:xfrm>
                <a:off x="3505320" y="3260880"/>
                <a:ext cx="990360" cy="457200"/>
              </a:xfrm>
              <a:prstGeom prst="rightArrow">
                <a:avLst>
                  <a:gd name="adj1" fmla="val 50000"/>
                  <a:gd name="adj2" fmla="val 54154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AutoShape 14"/>
              <p:cNvSpPr/>
              <p:nvPr/>
            </p:nvSpPr>
            <p:spPr>
              <a:xfrm>
                <a:off x="5105520" y="2209680"/>
                <a:ext cx="380880" cy="609840"/>
              </a:xfrm>
              <a:prstGeom prst="downArrow">
                <a:avLst>
                  <a:gd name="adj1" fmla="val 50000"/>
                  <a:gd name="adj2" fmla="val 40028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Text Box 15"/>
              <p:cNvSpPr/>
              <p:nvPr/>
            </p:nvSpPr>
            <p:spPr>
              <a:xfrm>
                <a:off x="3809880" y="1447920"/>
                <a:ext cx="297180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Climax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16"/>
              <p:cNvSpPr/>
              <p:nvPr/>
            </p:nvSpPr>
            <p:spPr>
              <a:xfrm>
                <a:off x="5867280" y="3733920"/>
                <a:ext cx="914400" cy="457200"/>
              </a:xfrm>
              <a:prstGeom prst="leftArrow">
                <a:avLst>
                  <a:gd name="adj1" fmla="val 50000"/>
                  <a:gd name="adj2" fmla="val 50000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Text Box 17"/>
              <p:cNvSpPr/>
              <p:nvPr/>
            </p:nvSpPr>
            <p:spPr>
              <a:xfrm>
                <a:off x="6400800" y="3336840"/>
                <a:ext cx="2362320" cy="11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Falling Action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Text Box 20"/>
              <p:cNvSpPr/>
              <p:nvPr/>
            </p:nvSpPr>
            <p:spPr>
              <a:xfrm>
                <a:off x="6248520" y="5638680"/>
                <a:ext cx="2361960" cy="11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500" spc="-1" strike="noStrike">
                    <a:solidFill>
                      <a:srgbClr val="000099"/>
                    </a:solidFill>
                    <a:latin typeface="Comic Sans MS"/>
                  </a:rPr>
                  <a:t>Resolution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AutoShape 21"/>
              <p:cNvSpPr/>
              <p:nvPr/>
            </p:nvSpPr>
            <p:spPr>
              <a:xfrm>
                <a:off x="7848720" y="4952880"/>
                <a:ext cx="457200" cy="762120"/>
              </a:xfrm>
              <a:prstGeom prst="upArrow">
                <a:avLst>
                  <a:gd name="adj1" fmla="val 50000"/>
                  <a:gd name="adj2" fmla="val 41673"/>
                </a:avLst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xpositio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introduces the setting, the characters, the basic situation; introduc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ising Action- central conflict introduced; all events leading up to the climax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limax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onflict reaches a high point of interest or suspens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Plot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alling Action - Conflict begin to resolve; story tapers off; events that lead up to the resolu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solu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ccurs at the very end of the story; conflicts are resolved. (Also called the denouement.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 person, animal, natural force or object in a story or play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endParaRPr b="1" lang="en-US" sz="4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 process of revealing the personality of a character is calle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haracterization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27:26Z</dcterms:created>
  <dc:creator>fchs writing lab</dc:creator>
  <dc:description/>
  <dc:language>en-US</dc:language>
  <cp:lastModifiedBy>install</cp:lastModifiedBy>
  <cp:lastPrinted>2002-11-19T20:43:38Z</cp:lastPrinted>
  <dcterms:modified xsi:type="dcterms:W3CDTF">2010-08-23T18:46:19Z</dcterms:modified>
  <cp:revision>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